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AC54-A26F-435A-BE34-7EE7ED8744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A104-C140-4272-BF14-09D0B58D57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1E3-59CA-4FFD-B5E2-69DC78E3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735-AEF6-402D-BEA8-7E8ED4FD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266-5397-413E-BD44-9A31197A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A59-3539-47A6-9812-47A9A48D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0D6-27FC-48C7-83D8-1200D2B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003-419D-4805-8778-1E213DC0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A06-CA11-49EB-8DCA-330D821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1D2-0686-474A-8FBD-2E395B7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758-65F3-4F61-B3AB-9CA2B6E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A0-74F6-44ED-8D6F-E800F62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E29-A87F-48B1-9910-390C8BD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BAF-35B3-4636-8B56-816697A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76B-3316-49C2-9E5B-F079A42470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/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2514600"/>
            <a:ext cx="63244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esus threw out the demon which was in the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am the man whom you are see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e ate the meal which the king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phet offered the sacrifice, because of which the rain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 this the Messiah for whom we are wa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governor sent the soldiers who arrest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4920" y="15238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eak down these complex sentences into two basic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ich word is the antecedent of the relative in these sent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010280" y="2529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10280" y="3032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10280" y="3551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10280" y="4043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crif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010280" y="48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ssi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010280" y="5397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ld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57120" y="1228680"/>
            <a:ext cx="3581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ὁ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ᾑ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α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ὑ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τ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ὡ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ο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1360" y="170496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ter Nominativ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81360" y="222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881360" y="26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81360" y="32148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D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81360" y="3686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81360" y="421956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Nominative Plural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881360" y="4724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Accus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881360" y="5210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minine Accusative Singular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881360" y="5715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, Femin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Geni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881360" y="6235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Neuter D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214280"/>
            <a:ext cx="442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ω τον δουλον ὁν ἐκαλε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παγε ἐκ του οἰκου ἐν ᾡ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 ἐστιν τα ποτηρια ἁ φιλ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 γαρ τῳ ἐυαγγελιῳ ὃ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ἱ ἀποστολοι ἐκηρυσσ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σπαζεσθε οἳ ἐρχονται προς ὑ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 ἐστιν ὁ κυριος δι’ οὑ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ξο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198288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ee the slave whom he c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89640" y="25272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 from the house in which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92520" y="33163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are the cups which we l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606920" y="404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believed the good news which the apostles were pr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619520" y="49230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(pl.) the ones who are coming to you (pl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19520" y="56944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the Lord through whom we will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657440"/>
            <a:ext cx="450036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σπαζεσθε τον Τιμοθεον ὑπε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 ἡ ἐκκλησια προσευ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keeps the bread which h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necessary to love the God who saves 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you (s.) believe the gospel which you he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d the disciple who denied Jesus rep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99000" y="1568520"/>
            <a:ext cx="45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am saying to you what I heard (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heard, this I am saying to y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89640" y="22114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Timothy on whose behalf the church i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92520" y="30146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ρει τον ἀρτον ὁν ἐποι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06920" y="371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 φιλειν τον θεον ὁς σωζει ἡ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19520" y="46022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εις τῳ εὐαγγελιῳ ὃ ἠκουσ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5278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μαθητης ὁς ἠρνησατο τον Ἰησουν μετενοησ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42920" y="109224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ἁ ἠκουσα ταυτα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2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2920" y="1500120"/>
            <a:ext cx="47149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βλεπ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 φιλεις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ω οὐ φιλω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 ἐγ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57760" y="22575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rely you don’t see? / You don’t se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57760" y="3071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rely you love me? / You don’t love m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57760" y="3887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do not love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57760" y="47228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rely not I? / It is not me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85840" y="121428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these sentences include direct or indirect statemen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ndirect, which Greek tense would be used in the indirect sta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8720" y="2417760"/>
            <a:ext cx="4267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enturion says that he is g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id to him, 'Worship m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men said that he had been bl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ldiers thought that they saw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lind people said, 'We want to se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hey cried out that he wa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24400" y="2432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24400" y="2887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24400" y="3343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Im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24400" y="40971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Ao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24400" y="486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24400" y="5619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1357200"/>
            <a:ext cx="85341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Greek, which case would be used for these time expression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y came on the Sabbath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fasted for forty day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codemus came by nigh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ree days he was in the tom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 dawn the stone move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 was arrested during Pass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4480" y="28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433840" y="337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429160" y="393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29160" y="4489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29160" y="5011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29160" y="5565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4440" y="2700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38:18Z</dcterms:created>
  <dc:creator>Sarah</dc:creator>
  <dc:description/>
  <dc:language>en-US</dc:language>
  <cp:lastModifiedBy>Sarah</cp:lastModifiedBy>
  <dcterms:modified xsi:type="dcterms:W3CDTF">2009-03-03T21:05:09Z</dcterms:modified>
  <cp:revision>22</cp:revision>
  <dc:subject/>
  <dc:title>Slide 1</dc:title>
</cp:coreProperties>
</file>